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98B5-6FD6-40E4-8316-6755FDD0C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525B0-885E-48E6-8963-3CBD0A2C1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7A32-D25C-42C7-925F-6014BD73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276D-7983-4D44-9F78-5A5CE940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3733-A819-4354-B0D8-DF13EE870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47AB-F7C6-49D2-B56F-B24678AD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85AF1-B33E-4961-8708-99E8A7891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8F0-84D8-450B-87EB-8B7349681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D03B-230A-44D9-B56F-8F25901AF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665D1-DF90-474C-AAB5-268619971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807C-0923-4B8D-9422-F9DA72909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31EC-6E75-4355-B16E-1710D64D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134D-BD95-4348-B85B-BF3C52A73A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87280" y="981000"/>
            <a:ext cx="70567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Acciones del Área de Transferencia y PI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Secretaría de Planeamiento y Políticas en Ciencia, Tecnología e  Innovació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ffffff"/>
                </a:solidFill>
                <a:latin typeface="Arial"/>
              </a:rPr>
              <a:t>SePP - MinCy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95280" y="177336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Promoción de la actividad de vinculación y 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Tahoma"/>
              </a:rPr>
              <a:t>transferencia tecnológ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11280" y="1125360"/>
            <a:ext cx="792144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- ¿Cuáles son las razones por las cuales no se logra la vinculación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Tahoma"/>
              </a:rPr>
              <a:t>- ¿Cómo comenzamos a achicar la brech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68360" y="476280"/>
            <a:ext cx="8136000" cy="58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s-AR" sz="2600" spc="-1" strike="noStrike">
                <a:solidFill>
                  <a:srgbClr val="003366"/>
                </a:solidFill>
                <a:latin typeface="Tahoma"/>
              </a:rPr>
              <a:t>Actores involucr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RedVI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Instituciones de C&amp;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2088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Oficinas de Vinculación y Transferencia (OV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2088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Unidades de Vinculación Tecnológica (UV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2088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Secretarías de C&amp;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Incubadoras de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Sector produc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2088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Parques y pol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82088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Empresas innovad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Gestores tecnoló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Gobiernos nacional, provinciales y locales (promo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68360" y="476280"/>
            <a:ext cx="8064360" cy="57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6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s-AR" sz="2600" spc="-1" strike="noStrike">
                <a:solidFill>
                  <a:srgbClr val="003366"/>
                </a:solidFill>
                <a:latin typeface="Tahoma"/>
              </a:rPr>
              <a:t>1º etapa propuesta </a:t>
            </a:r>
            <a:r>
              <a:rPr b="0" lang="es-AR" sz="2400" spc="-1" strike="noStrike">
                <a:solidFill>
                  <a:srgbClr val="003366"/>
                </a:solidFill>
                <a:latin typeface="Tahoma"/>
              </a:rPr>
              <a:t>(en coordinación con la Red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66"/>
                </a:solidFill>
                <a:latin typeface="Tahoma"/>
              </a:rPr>
              <a:t>Apoyo y asistencia a las Oficinas de Vincul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3366"/>
                </a:solidFill>
                <a:latin typeface="Tahoma"/>
              </a:rPr>
              <a:t>y Transferencia Tecnológica (OVT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3366"/>
                </a:solidFill>
                <a:latin typeface="Tahoma"/>
              </a:rPr>
              <a:t>Metodología propuest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Relevamientos (encuestas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“</a:t>
            </a: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Diagnóstico de situación” (fortalezas – debilidad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Estudio de casos a nivel local e internac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Diseño de instrumentos de promo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Plan de Fortalecimi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200" spc="-1" strike="noStrike">
                <a:solidFill>
                  <a:srgbClr val="003366"/>
                </a:solidFill>
                <a:latin typeface="Tahoma"/>
              </a:rPr>
              <a:t>2º etapa de capacita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476280"/>
            <a:ext cx="8064360" cy="56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3366"/>
                </a:solidFill>
                <a:latin typeface="Tahoma"/>
              </a:rPr>
              <a:t> </a:t>
            </a:r>
            <a:r>
              <a:rPr b="1" lang="es-AR" sz="2600" spc="-1" strike="noStrike">
                <a:solidFill>
                  <a:srgbClr val="003366"/>
                </a:solidFill>
                <a:latin typeface="Tahoma"/>
              </a:rPr>
              <a:t>Actividades de difusión y capacitació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Curso-taller en Propiedad Intelect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UNSL abril-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Conferencia Internacional OMPI-MinCyT sobre “Uso estratégico del Capital Intelectual” FLENI (CABA) julio-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Taller sobre búsquedas de información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UBA agosto-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Seminario sobre Derecho de autor, dirigido a REUN y RedVIT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s-AR" sz="2000" spc="-1" strike="noStrike">
                <a:solidFill>
                  <a:srgbClr val="003366"/>
                </a:solidFill>
                <a:latin typeface="Tahoma"/>
              </a:rPr>
              <a:t>agosto-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-343080" algn="just">
              <a:lnSpc>
                <a:spcPct val="150000"/>
              </a:lnSpc>
              <a:buClr>
                <a:srgbClr val="0033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3366"/>
                </a:solidFill>
                <a:latin typeface="Tahoma"/>
              </a:rPr>
              <a:t>Seminario sobre protección de invenciones biotecnológicas SIDETEC (Tucumán) agosto-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836640"/>
            <a:ext cx="8064360" cy="53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6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ahoma"/>
              </a:rPr>
              <a:t>Gracias por su a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3366"/>
                </a:solidFill>
                <a:latin typeface="Tahoma"/>
              </a:rPr>
              <a:t>¿Propuest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3366"/>
                </a:solidFill>
                <a:latin typeface="Tahoma"/>
              </a:rPr>
              <a:t>Dra. Elisa Herr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366"/>
                </a:solidFill>
                <a:latin typeface="Tahoma"/>
              </a:rPr>
              <a:t>Responsable Área de Transferencia y Propiedad 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366"/>
                </a:solidFill>
                <a:latin typeface="Tahoma"/>
              </a:rPr>
              <a:t>Secretaría de Planeamiento y Políticas en Ciencia, Tecnologí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366"/>
                </a:solidFill>
                <a:latin typeface="Tahoma"/>
              </a:rPr>
              <a:t>e Innovación Productiva - SeP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366"/>
                </a:solidFill>
                <a:latin typeface="Tahoma"/>
              </a:rPr>
              <a:t>eherrera@agencia.secyt.gov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3366"/>
                </a:solidFill>
                <a:latin typeface="Tahoma"/>
              </a:rPr>
              <a:t>www.mincyt.gov.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5T17:50:43Z</dcterms:created>
  <dc:creator>Maquina1</dc:creator>
  <dc:description/>
  <dc:language>en-US</dc:language>
  <cp:lastModifiedBy>PABLO</cp:lastModifiedBy>
  <dcterms:modified xsi:type="dcterms:W3CDTF">2008-05-29T17:58:49Z</dcterms:modified>
  <cp:revision>27</cp:revision>
  <dc:subject/>
  <dc:title>Diapositiva 1</dc:title>
</cp:coreProperties>
</file>